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7621588" cy="5716588"/>
  <p:notesSz cx="7621588" cy="5716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27880"/>
            <a:ext cx="68587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1337400"/>
            <a:ext cx="685872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80880" y="3069000"/>
            <a:ext cx="685872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27880"/>
            <a:ext cx="68587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337400"/>
            <a:ext cx="334692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5560" y="1337400"/>
            <a:ext cx="334692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069000"/>
            <a:ext cx="334692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3895560" y="3069000"/>
            <a:ext cx="334692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27880"/>
            <a:ext cx="68587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37400"/>
            <a:ext cx="2208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00000" y="1337400"/>
            <a:ext cx="2208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9120" y="1337400"/>
            <a:ext cx="2208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0880" y="3069000"/>
            <a:ext cx="2208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700000" y="3069000"/>
            <a:ext cx="2208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5019120" y="3069000"/>
            <a:ext cx="220824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27880"/>
            <a:ext cx="68587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80880" y="1337400"/>
            <a:ext cx="685872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227880"/>
            <a:ext cx="68587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80880" y="1337400"/>
            <a:ext cx="685872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27880"/>
            <a:ext cx="68587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337400"/>
            <a:ext cx="334692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3895560" y="1337400"/>
            <a:ext cx="334692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7880"/>
            <a:ext cx="68587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80880" y="227880"/>
            <a:ext cx="685872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27880"/>
            <a:ext cx="68587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37400"/>
            <a:ext cx="334692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560" y="1337400"/>
            <a:ext cx="334692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80880" y="3069000"/>
            <a:ext cx="334692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7880"/>
            <a:ext cx="68587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37400"/>
            <a:ext cx="334692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895560" y="1337400"/>
            <a:ext cx="334692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95560" y="3069000"/>
            <a:ext cx="334692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27880"/>
            <a:ext cx="685872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1337400"/>
            <a:ext cx="334692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895560" y="1337400"/>
            <a:ext cx="334692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3069000"/>
            <a:ext cx="6858720" cy="15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5920" y="1899720"/>
            <a:ext cx="6667560" cy="13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010 BMW Tech Academy 20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857160" y="3781080"/>
            <a:ext cx="590544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hris Bartle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37960" y="190080"/>
            <a:ext cx="7143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37960" y="1142640"/>
            <a:ext cx="71438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/ppt/media/" descr="photo.php?id=46374%2F5eac4499aa1d6ae30fc37cd4bb36b5cd"/>
          <p:cNvPicPr/>
          <p:nvPr/>
        </p:nvPicPr>
        <p:blipFill>
          <a:blip r:embed="rId1"/>
          <a:stretch/>
        </p:blipFill>
        <p:spPr>
          <a:xfrm>
            <a:off x="0" y="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41" name="Shape 18"/>
          <p:cNvSpPr/>
          <p:nvPr/>
        </p:nvSpPr>
        <p:spPr>
          <a:xfrm>
            <a:off x="4129200" y="409680"/>
            <a:ext cx="3286080" cy="9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itment of the first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7960" y="190080"/>
            <a:ext cx="7143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37960" y="1142640"/>
            <a:ext cx="71438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/ppt/media/" descr="photo.php?id=46374%2Fde1a6bde0859329facbbc12dc0ad4ca1"/>
          <p:cNvPicPr/>
          <p:nvPr/>
        </p:nvPicPr>
        <p:blipFill>
          <a:blip r:embed="rId1"/>
          <a:stretch/>
        </p:blipFill>
        <p:spPr>
          <a:xfrm>
            <a:off x="0" y="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45" name="Shape 23"/>
          <p:cNvSpPr/>
          <p:nvPr/>
        </p:nvSpPr>
        <p:spPr>
          <a:xfrm>
            <a:off x="819000" y="4157640"/>
            <a:ext cx="647712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uel and WB collabor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like peas &amp; carrots"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7960" y="190080"/>
            <a:ext cx="7143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37960" y="1142640"/>
            <a:ext cx="71438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/ppt/media/" descr="photo.php?id=46374%2F190f594dfb9a869bbf2e58b28c61ed27"/>
          <p:cNvPicPr/>
          <p:nvPr/>
        </p:nvPicPr>
        <p:blipFill>
          <a:blip r:embed="rId1"/>
          <a:stretch/>
        </p:blipFill>
        <p:spPr>
          <a:xfrm>
            <a:off x="0" y="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49" name="Shape 28"/>
          <p:cNvSpPr/>
          <p:nvPr/>
        </p:nvSpPr>
        <p:spPr>
          <a:xfrm>
            <a:off x="795240" y="295200"/>
            <a:ext cx="6124680" cy="9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B Special Ed. figuring out how to work their new came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7960" y="190080"/>
            <a:ext cx="7143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37960" y="1142640"/>
            <a:ext cx="71438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/ppt/media/" descr="photo.php?id=46374%2Fb37d3ff2b399474243c523359acfb76b"/>
          <p:cNvPicPr/>
          <p:nvPr/>
        </p:nvPicPr>
        <p:blipFill>
          <a:blip r:embed="rId1"/>
          <a:stretch/>
        </p:blipFill>
        <p:spPr>
          <a:xfrm>
            <a:off x="0" y="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3" name="Shape 33"/>
          <p:cNvSpPr/>
          <p:nvPr/>
        </p:nvSpPr>
        <p:spPr>
          <a:xfrm>
            <a:off x="952560" y="237960"/>
            <a:ext cx="6134040" cy="95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B Science dept. doing what they do b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7960" y="190080"/>
            <a:ext cx="7143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37960" y="1142640"/>
            <a:ext cx="71438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/ppt/media/" descr="photo.php?id=46374%2F41f9b7cedd59459b4d18207b81fc692e"/>
          <p:cNvPicPr/>
          <p:nvPr/>
        </p:nvPicPr>
        <p:blipFill>
          <a:blip r:embed="rId1"/>
          <a:stretch/>
        </p:blipFill>
        <p:spPr>
          <a:xfrm>
            <a:off x="-14400" y="4680"/>
            <a:ext cx="8582040" cy="5819760"/>
          </a:xfrm>
          <a:prstGeom prst="rect">
            <a:avLst/>
          </a:prstGeom>
          <a:ln w="0">
            <a:noFill/>
          </a:ln>
        </p:spPr>
      </p:pic>
      <p:sp>
        <p:nvSpPr>
          <p:cNvPr id="57" name="Shape 38"/>
          <p:cNvSpPr/>
          <p:nvPr/>
        </p:nvSpPr>
        <p:spPr>
          <a:xfrm>
            <a:off x="1028880" y="324000"/>
            <a:ext cx="5981400" cy="95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teenage son enjoying "his" summer va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7960" y="190080"/>
            <a:ext cx="71438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37960" y="1142640"/>
            <a:ext cx="714384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/ppt/media/" descr="photo.php?id=46374%2Fec8ae25245809935ee951f1dd4ee39f0"/>
          <p:cNvPicPr/>
          <p:nvPr/>
        </p:nvPicPr>
        <p:blipFill>
          <a:blip r:embed="rId1"/>
          <a:stretch/>
        </p:blipFill>
        <p:spPr>
          <a:xfrm>
            <a:off x="0" y="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Shape 43"/>
          <p:cNvSpPr/>
          <p:nvPr/>
        </p:nvSpPr>
        <p:spPr>
          <a:xfrm>
            <a:off x="1300320" y="4710240"/>
            <a:ext cx="5190840" cy="94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nly one sad to see me leave for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 Ley</dc:creator>
  <dc:description/>
  <dc:language>en-US</dc:language>
  <cp:lastModifiedBy>Owner</cp:lastModifiedBy>
  <dcterms:modified xsi:type="dcterms:W3CDTF">2010-06-16T19:38:29Z</dcterms:modified>
  <cp:revision>1</cp:revision>
  <dc:subject/>
  <dc:title>2010 BMW Tech Academy 2010</dc:title>
</cp:coreProperties>
</file>